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BEC-BDE1-4960-807F-831E9C40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D1A-24A8-4EE6-B1CF-09686A98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36D-216C-4A85-A77D-0C8F47AE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CE1-5CFE-4EF5-BC1D-D1C9D8AC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B5A6-82F3-46B3-AF6B-31B63C54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9AA6-932A-45ED-BC89-A57AB37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8BC6-4F99-4275-AB91-F2539AAF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0178-E288-40E1-9A5A-8F8D79A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E87-F042-4D91-A73F-8B975F84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BF18-26C9-42F5-8E57-72E87F7D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033A-2FB5-427D-8444-A2C9EEC8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CDC-204D-4EC9-84D3-E67BCB2A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8912-9FEA-4C87-8653-822CD46D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8E0E-3E11-4256-996D-5C08E99D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075C-E75E-4492-9AC0-7B622FE0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FF5D-E2A3-4EB5-900B-CF2ABE20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6C65-FD96-4473-93B3-FF41124E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C05-9355-4A6B-A65D-98D1DC9F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541-56CA-4FFB-801A-F8C510D1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ECD-E2FA-4B03-988C-0B40E3A9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187-9E06-4238-AF36-14B50E1B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95F-E77E-41D8-BB88-CBF32C1C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C1C-8DDD-4363-9BB1-9BE5F2E7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521-F6A2-4D69-BFBB-65E81E1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2B9-F227-4161-BED3-F333210EE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9437-A3E3-4B26-84A8-4EBF23764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La Rutina de Imogen 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4727880" y="33526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Laura Giargia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84582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o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 despier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mprano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 leva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seguida 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267080" y="685800"/>
            <a:ext cx="4496040" cy="4303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32432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449604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a n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ma una duch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 ban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r que ella no tiene tiempo. Ell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 p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 ropa y la muchach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 cepi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s dientes con un tubo de pasta dentif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445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581280" y="4146480"/>
            <a:ext cx="2772000" cy="271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86400" y="1522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9880" y="4495320"/>
            <a:ext cx="5181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og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va la cara con una barro de jabon y se pone el maquillaj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124080" cy="419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91120" y="-457200"/>
            <a:ext cx="3152880" cy="2252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8320" y="10666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4419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og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pe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l pelo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mi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 el espejo cuando se peina 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05520" y="457200"/>
            <a:ext cx="35305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52880" y="762120"/>
            <a:ext cx="388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muchach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sien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a mesa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desayu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a muchacha bebe un vaso de jugo de naranja y Ella come la fruta.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45:58Z</dcterms:created>
  <dc:creator>giargiarilau</dc:creator>
  <dc:description/>
  <dc:language>en-US</dc:language>
  <cp:lastModifiedBy>giargiarilau</cp:lastModifiedBy>
  <dcterms:modified xsi:type="dcterms:W3CDTF">2012-04-04T17:20:58Z</dcterms:modified>
  <cp:revision>3</cp:revision>
  <dc:subject/>
  <dc:title>La Rutina de Imogen  </dc:title>
</cp:coreProperties>
</file>